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A06-9335-49B5-A42C-9EA27271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D21-D612-412A-9DAF-EC6A717C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2E0-9586-4191-AB57-05D3B50D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D5C-BB59-4A2B-A457-2E7F1B2B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0EC5-AD55-4362-8187-828A2443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0023-6D71-4E84-8AED-CA9E5959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A176-0E67-455A-824F-57122C32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2CDA-1D62-4BF0-B08D-0D20E6B4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BF8F-DBAD-4BB8-8D63-179B0A94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C9F5-AA7B-46A8-B8C2-31E9771B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8A54-67FE-41C7-8AA6-99C20EF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BEE-53FD-4A45-8CC8-6DC00E04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A1A3-42C4-4068-B693-7CDF193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1ABA-E4B3-49A3-837E-206AD420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2352-FB08-4D69-960B-F73C28DB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94B6-37FE-4E53-80B1-CC7E75EF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F983-1452-4770-B87D-CE1A1960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295-55FE-43BD-9FC7-D827117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51B-BDFE-4805-90A4-1F0EC232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E53-492A-4F17-8E3B-4E30D541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7A5-80BD-433E-8F3B-B137A42A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485-ECA1-45B2-ADC5-F264CE2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902-A5E8-4128-B243-AAC57C2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CB5-2E31-4856-A93B-B38EF64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2A0E-9A7B-4E43-B129-59ECEBD07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816E-FCDA-431F-A0A8-25F78221B9C3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harcoal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xplicit Instruction: Effective and Efficient Teaching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art 2- Design of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478-CC7E-49A9-91A4-08035239D7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Charcoal"/>
                <a:ea typeface="Times New Roman"/>
              </a:rPr>
              <a:t>Design of Lesson - </a:t>
            </a:r>
            <a:r>
              <a:rPr b="1" i="1" lang="en-US" sz="3700" spc="-1" strike="noStrike">
                <a:solidFill>
                  <a:srgbClr val="333399"/>
                </a:solidFill>
                <a:latin typeface="Charcoal"/>
                <a:ea typeface="Times New Roman"/>
              </a:rPr>
              <a:t>Body</a:t>
            </a:r>
            <a:br>
              <a:rPr sz="3700"/>
            </a:br>
            <a:r>
              <a:rPr b="1" i="1" lang="en-US" sz="3700" spc="-1" strike="noStrike">
                <a:solidFill>
                  <a:srgbClr val="333399"/>
                </a:solidFill>
                <a:latin typeface="Charcoal"/>
                <a:ea typeface="Times New Roman"/>
              </a:rPr>
              <a:t>Skill or Strategy Instruction</a:t>
            </a:r>
            <a:r>
              <a:rPr b="1" lang="en-US" sz="3700" spc="-1" strike="noStrike">
                <a:solidFill>
                  <a:srgbClr val="333399"/>
                </a:solidFill>
                <a:latin typeface="Charcoal"/>
                <a:ea typeface="Times New Roman"/>
              </a:rPr>
              <a:t>  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 do 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romp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We do 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Chec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You do it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C9B-8501-4925-B2DD-210771A9AD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sign of Lesson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the strateg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students what is being taught, the goal of the strategy instructio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students the rationale for the strategy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teps in the strategy.  (This can also be done as the strategy is modeled.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A21-0A18-47E9-9CBA-B7931E06AC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   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I do it.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“My turn.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 (I do i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 step-by-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ggerate the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students what you are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students what you are thinking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for responses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C1F-572C-4D24-A050-0E99A08E5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e do it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. (“Let’s do it together.”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  (We do it.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by doing behavior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e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b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or lead students throug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- do - Step - do - Step - do - Step -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fade your promp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813-3E3E-45CE-BAB0-85967ED495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   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You do it.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“Your turn.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for understanding.  (You do it.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students’ understanding before independent work is give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ly monitor students’ respon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until students are consistently accu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69C-5F8D-4CEC-BD05-F7E91C8E6D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 - Modific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tions of “ I do it. We do it. You do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you can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I do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do it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you can us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o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do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lesson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I do it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lesson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o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54D-AF8D-4884-8F4E-E90E546B8C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y/Skill Instruction 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785-5C34-48FD-8469-03544A3E6B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 </a:t>
            </a:r>
            <a:br>
              <a:rPr sz="44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structional steps were demonstr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6A0-E40C-4E5C-92C2-79055A442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good practices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9FE-8DA3-4576-A55B-02961568F9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ocabulary (Concept)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F8A-C9D8-4A67-AEA7-F2E255E3C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3399"/>
              </a:solidFill>
              <a:latin typeface="Charcoal"/>
              <a:ea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ita L. Archer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cherteach@aol.co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03-295-77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9C5-1BF0-4FDF-A1FE-43758666A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lection of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ords for robust, explicit vocabulary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to ten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story or section in a chapter would be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students the meaning of other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eeded for compreh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0CB-74E0-442B-B6D4-2485778DA8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lection of vocabular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words that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words that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assage under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words that students are likely to encounter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re generally useful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tahl, 198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3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Tier Two word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eck &amp; McKeown, 200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E8E-A65A-49FC-85D2-3FEE86C5F9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lection of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One - Basic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r, bed, happy,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r Two - Words in general use, but no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ntrate, absurd, fortunate, observation, accountant, dignity, conveni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Three - Rare words limited to a specif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ndra, igneous rocks, weath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295-60E7-4BC0-96CB-4B3760BBAC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plicit Instruction of Words-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lection of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locks Wor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hl &amp; Stahl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951-24DC-4E69-B7B7-67B3433229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Select words for robust, explicit instruction.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2162160"/>
          <a:ext cx="8001000" cy="46958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Grad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fth Grad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my Pie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y Derek Muns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amily Under the Bridge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Natalie Savage Carlson (for Chapter 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ieu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poli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ed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m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w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y-ho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s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acinth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w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i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d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eand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r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titu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idiou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iter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e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gu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mera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62C-A154-40E2-893A-F1F7AB20B9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licit Instruction of Words- Practice Activity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lect 5 words for robust explicit instruct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14400" y="1828800"/>
          <a:ext cx="5791320" cy="424512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2133720"/>
              </a:tblGrid>
              <a:tr h="606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ding Level: Eighth Grad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ssage:  Breaker’s Brid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ries:  Prentice Ha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: *Selected for instruction in manual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bstacle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mplif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rithing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o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mp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er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ni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me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xecutioner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f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mmortal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s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pos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mpe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uperv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ad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CF3-F48F-4E3C-862F-F11E2608A6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paration - Selection of words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teach idioms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A phrase or expression in which the entire meaning is different from the usual meaning of the  individual words.)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 rolling down the h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ught my ey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 we we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stitch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int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 me an arm and a le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 w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der the weath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8F2-67BE-4B6E-8435-8CFB13A222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paration - Student-friendly explanations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ctionary Defi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e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(1) To free wholly or partly from pain, stress, pressure. (2) To lessen or alleviate, as pain o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ent-Friendly Explanatio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eck, McKeown, &amp; Kucan, 200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know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easy to under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omething that was difficult is over or never happened at all, you fe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e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DA2-FD78-4A9C-9D6B-53DF690523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paration - Student-friendly explanat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ctionary Defi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tio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he act or state of attending through applying the mind to an object of sense or thou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 condition of readiness for such attention involving a selective narrowing of consciousness and recep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lanation from Dictionary for English Language Lear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ementary Learner’s Dictionar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ed by Oxf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king or listening carefully and wit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CF1-1606-438F-85F7-1BDC43E5E6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Preparation - Selection of Vocabular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2600" y="2017800"/>
          <a:ext cx="7772400" cy="3429000"/>
        </p:xfrm>
        <a:graphic>
          <a:graphicData uri="http://schemas.openxmlformats.org/drawingml/2006/table">
            <a:tbl>
              <a:tblPr/>
              <a:tblGrid>
                <a:gridCol w="3668760"/>
                <a:gridCol w="41036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tionary Defini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-Friendly Explan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gusting - to cause to feel disgust; be sickening, repulsive, or very distasteful 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gile - easily broken, damaged, or destroy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titude - a feeling of thankful appreciation for favors or benefits recei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tering  - to linger in an aimless way; spend time id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954-27EC-4F80-B77A-6AECE175DF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EFFECTIVE  INSTRUCTIO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of 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y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9AD-E040-47B5-A1D1-4A0275BD9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D8F8-0B7B-4559-AA56-432CF6F0C3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structional steps were used to introduce each of the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532-E215-4102-8EC1-9ED30B58C4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good practices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F7F-10BC-4BED-8C3D-629687A01F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(Note:  Teach words AFTER you have read a story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your students and BEFORE students rea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selecti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Step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Introduce the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6602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the word on the board or over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6602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the word and have the students repeat the wor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word is difficult to pronounce or unfamiliar have the students repeat the word a number of times.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ntroduce the word with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is word is relieved.   What wor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9D3-B9C4-4D92-8048-42D280D54E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Step 2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a student-friendl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la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students the explanation.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m read the explanation with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esent the definition with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 something that is difficult is 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r never happened at all, you feel reliev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o if something that is difficult is ov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you would feel  _______________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C40-E3C7-40D7-A3B1-EA4D6C924E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e the word with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re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examp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Present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the examples with m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he spelling test is over, you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ieve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you have finished giving the spee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ou dreaded, you fee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ieved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CCF-8004-4090-80F5-4B0413495D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Step 4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students’ understand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Option #1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deep processing ques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heck students’ understanding with 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 the students lined up for morning reces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Jason said, “I am so relieved that this morning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ver.” Why might Jason be relieved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 Maria was told that the soccer game h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en cancelled, she said, “I am relieved.”  W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ght Maria be reliev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41D-BBC6-4539-B3D6-BB51F72775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Arial"/>
              </a:rPr>
              <a:t>Step 4.  </a:t>
            </a:r>
            <a:r>
              <a:rPr b="0" lang="en-US" sz="20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students’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Arial"/>
              </a:rPr>
              <a:t>Option #2.  </a:t>
            </a:r>
            <a:r>
              <a:rPr b="0" lang="en-US" sz="20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students discern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and non-examp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heck students’ understanding with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you were nervous singing in front of oth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ould you feel relieved when the concert was over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es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h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you loved singing to audiences, would you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ieved when the concert was over?”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No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hy not?”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as not difficult for yo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7B1-2CCA-4AA1-8206-C03F27DCDD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Step 4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students’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Option #3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students generate their ow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heck students’ understanding with me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ell your partner a time when you w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lieved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27E-2602-43BF-B54A-0ED7D54C5E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Step 4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students’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Option #4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tudents with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ence starter”.  Have them sa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heck students’ understanding with me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ometimes your mother is relieved.  Tell your partn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 your mother is relieved.  Start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entence by saying, “My mother is r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________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B17-C440-4EC5-ADDA-088F2C7696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Critical Content</a:t>
            </a: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8994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USEFUL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t EMPOWER stud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t GENERAL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es -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s (Vocabulary) -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615-B9BB-46F9-9DCC-1DEA93252CD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good practices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EF1-9FCF-4631-BE51-1B600CE90A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 teac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he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a student-friendly expla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the word with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tudents’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E45-C27F-460E-A4F8-39D93474B84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ocabulary Lo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ve students maintain a vocabulary lo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og can be used f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d vocabulary reviews with the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with a partner or a t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study of vocabul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99D-5F53-4219-999A-243886DA78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ocabulary Log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can be recorded on a vocabulary lo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-friendly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f thes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to illustrate the word’s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and non-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EAB-8A99-42C8-B8E8-43B8DC4E88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d W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word wall in your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a reminder of the con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f the cover of the read-aloud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f the first page in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tle of the story or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ic in science or soci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the vocabulary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the words into your classroom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students to us the words when speaking and wr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868-2230-4DF7-8DCA-BDA54B0208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d W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ord wall in your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a reminder of the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of the cover of the read-aloud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of the first page in the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opic in science or social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the vocabular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the words into your classroom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students to us the words when speaking and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5D2-DD02-460F-8E4C-194313E505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  <a:ea typeface="Times New Roman"/>
              </a:rPr>
              <a:t>Design of Lesson -  </a:t>
            </a:r>
            <a:r>
              <a:rPr b="1" i="1" lang="en-US" sz="3700" spc="-1" strike="noStrike">
                <a:solidFill>
                  <a:srgbClr val="333399"/>
                </a:solidFill>
                <a:latin typeface="Arial"/>
                <a:ea typeface="Times New Roman"/>
              </a:rPr>
              <a:t>Overview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ten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d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o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9F4-D1C3-4E53-9D41-2CAA61E4F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sign of Lesson -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Opening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verbal cue such as “Listen” or  “We are going to be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verbal cue with silenc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he content of the previous les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necessary preskills for today’s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ackground knowledge needed for today’s less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he goal of the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ew the activities for the 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201-DBE6-4AC0-889A-B34BD346E2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sign of Lesson -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Closing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skills/strategies/concepts/information tau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the content that will be taught in the next less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ssignments/quizzes/projects/performances due in the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record all ass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035-C728-46A5-9F13-F1876ED5E6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C2E5-3C30-4F1C-B019-7C327C4C61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rategy and Skil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637-2BBE-4CE3-90E0-10AF53EB62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9T23:22:08Z</dcterms:created>
  <dc:creator>Mary Gleason</dc:creator>
  <dc:description/>
  <cp:keywords/>
  <dc:language>en-US</dc:language>
  <cp:lastModifiedBy>Archer Anita</cp:lastModifiedBy>
  <cp:lastPrinted>2011-05-29T20:15:21Z</cp:lastPrinted>
  <dcterms:modified xsi:type="dcterms:W3CDTF">2011-07-19T04:43:28Z</dcterms:modified>
  <cp:revision>82</cp:revision>
  <dc:subject/>
  <dc:title>              Study Skills:   The Invisible Curriculum  Mary Gleason Associate Professor  College of Education     </dc:title>
</cp:coreProperties>
</file>